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4147876"/>
        <c:axId val="14850882"/>
      </c:barChart>
      <c:catAx>
        <c:axId val="5414787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4850882"/>
        <c:crosses val="autoZero"/>
        <c:auto val="1"/>
        <c:lblAlgn val="ctr"/>
        <c:lblOffset val="100"/>
        <c:noMultiLvlLbl val="0"/>
      </c:catAx>
      <c:valAx>
        <c:axId val="1485088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414787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A1E02-14CC-490C-87AD-E6761F677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37F0-C8A1-456D-967E-A2FF5F2B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BC53D-ED31-4F11-A9F5-6A386E60F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00D6D-6B91-48CE-A235-5B6610B14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841C1-B9CC-49A1-87D4-E468E69A7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DABFA-50DB-4652-A4CC-D8A9DCE52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59CD1-B07E-4384-B725-D10C4F9B1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A0DA6-07EC-4A68-96DD-CBAA6219D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AFFA7-772A-477B-AD8D-219616542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B9D27-C945-41D0-8B65-A39CFA7C8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43C79-D0F5-4CC9-B082-9203DF4DD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E32C8-F81F-48E7-B991-7DBE5C4B5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72589-643D-41B8-B78B-599274850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AFC7E-BA23-4511-8DA2-0959C358A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C30FD-13B7-40FB-A357-4B73E9B60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DD5C4-5725-46C1-A9BD-EF9AB2606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AD0A0-3510-481B-B6B4-2D7A8C296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717E5-E83C-4F67-9C8C-9A8A8FF08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96982-8517-4BE9-8FCB-D7F78D56B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E673D-A0CD-4399-B69D-5E959CEF7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55EC1-49FA-4E08-8814-4204B65B8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9A0DF-C8E2-4E28-A3C7-2FE8D47A1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3A80-FD0F-4227-A909-AB62D257E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0BF02-1C78-4DDE-B1BA-4774A3E42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7C6B12-1B94-4415-869F-0CC52B76238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F69577-7FA6-47C5-99C6-EE7BE44F48B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